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FF27-04EA-41BC-A4EA-FCED31CCB7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NIV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6E2-762E-45BD-A69B-FC47F1FB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5B4-29CA-4ACD-A722-4039B9C5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30F-126A-465B-ABBB-48BE4090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335-017A-4E81-BC8E-57EF901B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B72-34F2-46D5-93D3-42ADE0EE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D89-7B0C-4089-AD5B-FB0C95B1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34E-7E45-4A78-9589-40F8420C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19D-47F6-40E1-B548-EFF01BB8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4D5-F6B5-4DF9-A68E-4BB4947E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735-88DD-42FC-BE17-65A71413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090-F841-459B-8B41-393BF0C9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4E6-6430-46B8-9890-64F0F6DF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15560"/>
            <a:ext cx="8704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2055960" indent="-22716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7720" y="6563880"/>
            <a:ext cx="213372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20" y="6563880"/>
            <a:ext cx="186516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1840" y="6563880"/>
            <a:ext cx="42084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DEB7-1160-430C-83B2-7C959B9E5EAD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tka.pohankova@nuov.cz" TargetMode="External"/><Relationship Id="rId3" Type="http://schemas.openxmlformats.org/officeDocument/2006/relationships/hyperlink" Target="http://www.nuov.cz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absolvent.cz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80240" y="2108160"/>
            <a:ext cx="326376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6680" y="1700280"/>
            <a:ext cx="611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54007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árodní ústav odborného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Aktuální úkoly v příštím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Jitka Poha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Celostátní seminář ředitelů středních průmyslových š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Špindlerův Mlýn, 6. – 8. 10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ČR v EU –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RefeNet, TTnet, aktivity OECD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ordinační centrum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síť pro podporu rozvoje OV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centrum Europass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CVET (společné LdV projekt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QAR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Aktivity související s členstvím ČR v EU</a:t>
            </a: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ntakty se zahraničními institucemi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nformace o zapojení do mezinárodních projektů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Podíl na činnosti centrálních evropských výborů a organizací (Cedefop, ETF, DG VET)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 koho a s kým spolupracuje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MŠMT, další OPŘO, ČŠI, další ministerstva, kraje, zaměstnavatelé (svazy, HK, asociace, cechy,…)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školy</a:t>
            </a: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, veřejnost, zahraniční partneři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245"/>
                </a:solidFill>
                <a:latin typeface="Arial"/>
              </a:rPr>
              <a:t>Děkuji za pozornost.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Jitka Pohanková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tka.pohankova@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92120"/>
            <a:ext cx="81597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Arial Unicode MS"/>
              </a:rPr>
              <a:t>Hlavní oblasti činnosti</a:t>
            </a:r>
            <a:r>
              <a:rPr b="0" lang="cs-CZ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urikulum - cíle a obsah odborné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Další vzdělávání pedagogických pracovníků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valifikace – vedení a rozvoj Národní soustavy kvalifikac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Sociální partner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Uznávání výsledků neformálního vzdělávání a informálního uče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v EU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Jiné aktivity</a:t>
            </a: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STU, bulletin Odborné vzdělávání, zpravodaj Odborné vzdělávání v zahraničí)</a:t>
            </a:r>
            <a:endParaRPr b="0" lang="en-US" sz="14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24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urikulum – cíle a obsah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Tvorba RVP,  transformace soustavy oborů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 - (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H (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215) 82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E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104) 36, 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J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20) 5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 M, L/0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391) 110,  L/5  (93) 33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ývoj kurikula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činnosti a postupy pro monitorování RVP – zadání pro výzkumná šetření (MŠMT, OPŘO, </a:t>
            </a:r>
            <a:r>
              <a:rPr b="1" lang="cs-CZ" sz="1400" spc="-1" strike="noStrike">
                <a:solidFill>
                  <a:srgbClr val="014245"/>
                </a:solidFill>
                <a:latin typeface="Arial"/>
              </a:rPr>
              <a:t>oborové skupin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Modernizace vzdělávání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CEFIF, finanční gramotnost, EVVO a VUR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vzdělávání a profesního uplatnění žáků s SPV; péče o nadané žáky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spolupráce s IPPP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Metodika II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ta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zajišťování kvality odborného vzdělávání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 reflexe evropského vývoje, Doporučení Rady EU k implementaci Evropského rámce pro zajišťování kvality (EQARF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ZZ, Cesta ke kvalitě, Kurikulum S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izace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profilové části MZ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vzdělávání pedagogických pracovníků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rámci počátečního odborného vzdělávání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 potřeb a projektování ŠVP ve vazbě na RVP a NSK, didaktické aspekty realizace výuky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dalšího odborn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– průzkumy potřeb, projektování programů DV, realizace DV, celoživotní kariérové poradenství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zájmového popř. občansk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-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y potřeb, projektování programů DV, realizace DV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 v souvislosti s realizací uznávání výsledků předchozího učení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metodické sjednocování postupů,poradenské a podpůrné aktivity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 Metodika II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,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  Koncep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fikace – vedení a rozvoj NS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edení NSK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úkol ze zákona č. 179/2006; implementace strategie celoživotního učení; aktivity s mezinárodním kontextem reagují na potřeby reakce české kvalifikační soustavy na předpokládané zavádění ECVET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IPn projekty: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Rozvoj a implementace Národní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soustavy kvalifikac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návrh systémových  mechanismů pr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oblast DV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UNIV 2 –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proměna škol v centra celoživotníh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ociální partnerstv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odpora partnerství škol a zaměstnavatelů</a:t>
            </a:r>
            <a:r>
              <a:rPr b="1" lang="cs-CZ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Řízení a koordinace činnosti oborových skupin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koncepční skupina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dborné skupiny, Národní síť pro podporu zajišťování kvality odborného vzdělávání, poradní skupina - součást Koordinačního centra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borové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pracovní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todická a informační podpora sektorovým radám –  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Pn NSK2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 – EQF, ECVET, EQARF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znávání výsledků neformálního vzdělávání a informálního uče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roces uznávání výsledků předchozího uče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dentifikuje, dokumentuje, hodnotí a uznává kompetence jednotlivce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IPn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y – kvalita a validita celého procesu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centra CŽU – proces uznávání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imulace poptávky jednotlivců i podniků   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po DV, uznávání výsledků DV ve vazbě na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NSK a UNIV,…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systémové prostředí pro oblast DV (Implementace strategie celoživotního 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ntegrovaný systém kariérového poradenství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absolvent.cz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 (propojuje informace o školách a oborech vzdělánís poznatky o uplatnění absolventů na trhu práce a o potřebách zaměstnavatelů), Centrum kariérového poradenství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(IPn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IP Kariéra II )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 –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vývoj ekonomiky, technologií, a kvalifikačních požadavků profesí, analýzy vývoje zaměstnanosti a nezaměstnanosti, stav a vývoj nabídky pracovních příležitostí, vývoj počtu žáků škol podle oborové struktury a vzdělanostní úrovně, přechod absolventů na trh práce a do terciáru, postavení absolventů škol na trhu práce, analýzy stavu a vývoje nezaměstnanosti a absolventů škol, analýzy příčin předčasných odchodů ze vzdělávání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40:17Z</dcterms:created>
  <dc:creator>kasparov</dc:creator>
  <dc:description/>
  <dc:language>en-US</dc:language>
  <cp:lastModifiedBy>Jitka Pohanková</cp:lastModifiedBy>
  <dcterms:modified xsi:type="dcterms:W3CDTF">2009-10-07T05:59:59Z</dcterms:modified>
  <cp:revision>110</cp:revision>
  <dc:subject/>
  <dc:title>KURIKULUM S</dc:title>
</cp:coreProperties>
</file>