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1791-DA9D-4EE8-A941-D79FAAC874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NIV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360-1594-455F-A505-7635AE6F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227A-28E0-40D0-9F13-2A8BC50D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C80-213D-4F7D-8907-DC731923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2032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8536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64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2032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8536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B22-5850-4C54-8F12-03CDA2B7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92280" y="2171880"/>
            <a:ext cx="162734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CBCA-8F59-4D4A-B883-8320ABCB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2032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8536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5564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92032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08536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CF82-0C6C-4F2A-9F96-0802A26B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566-3FCB-4398-A950-5D7094C9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9D4-9A42-43A9-B949-9CFEE08B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2280" y="2171880"/>
            <a:ext cx="162734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51E-95FF-45D9-AB0F-668B95B8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E518-65A3-4A1E-BD69-7E5300FF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900-700A-47AE-A5AC-08A85857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F5C-55FE-4C8E-BD08-B410FAB4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920" y="115560"/>
            <a:ext cx="87040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5920" y="1339560"/>
            <a:ext cx="8557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4" marL="2055960" indent="-22716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5" marL="2055960" indent="-227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6" marL="2055960" indent="-227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7720" y="6563880"/>
            <a:ext cx="213372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20" y="6563880"/>
            <a:ext cx="186516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11840" y="6563880"/>
            <a:ext cx="42084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3D4E-2940-468D-8668-AF9A3216D868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14245"/>
                </a:solidFill>
                <a:latin typeface="Arial"/>
              </a:rPr>
              <a:t>Click to edit the outline text format</a:t>
            </a: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itka.pohankova@nuov.cz" TargetMode="External"/><Relationship Id="rId3" Type="http://schemas.openxmlformats.org/officeDocument/2006/relationships/hyperlink" Target="http://www.nuov.cz/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absolvent.cz/" TargetMode="External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880240" y="2108160"/>
            <a:ext cx="3263760" cy="4749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6680" y="1700280"/>
            <a:ext cx="6116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1989000"/>
            <a:ext cx="54007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Národní ústav odborného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Aktuální úkoly v příštím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Jitka Pohank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Celostátní seminář ředitelů středních průmyslových šk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Špindlerův Mlýn, 6. – 8. 10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činnost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Mezinárodní spolupráce, aktivity vyplývající z členství ČR v EU –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RefeNet, TTnet, aktivity OECD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Koordinační centrum EQ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Národní síť pro podporu rozvoje OV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Národní centrum Europass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mplementace ECVET (společné LdV projekty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mplementace EQAR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Aktivity související s členstvím ČR v EU</a:t>
            </a:r>
            <a:endParaRPr b="1" lang="en-US" sz="22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Kontakty se zahraničními institucemi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nformace o zapojení do mezinárodních projektů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Podíl na činnosti centrálních evropských výborů a organizací (Cedefop, ETF, DG VET)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Pro koho a s kým spolupracujem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245"/>
                </a:solidFill>
                <a:latin typeface="Arial"/>
              </a:rPr>
              <a:t>MŠMT, další OPŘO, ČŠI, další ministerstva, kraje, zaměstnavatelé (svazy, HK, asociace, cechy,…),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školy</a:t>
            </a:r>
            <a:r>
              <a:rPr b="0" lang="en-US" sz="2400" spc="-1" strike="noStrike">
                <a:solidFill>
                  <a:srgbClr val="014245"/>
                </a:solidFill>
                <a:latin typeface="Arial"/>
              </a:rPr>
              <a:t>, veřejnost, zahraniční partneři</a:t>
            </a: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245"/>
                </a:solidFill>
                <a:latin typeface="Arial"/>
              </a:rPr>
              <a:t>Děkuji za pozornost.</a:t>
            </a: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Jitka Pohanková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itka.pohankova@nuov.cz</a:t>
            </a:r>
            <a:r>
              <a:rPr b="0" lang="en-US" sz="1800" spc="-1" strike="noStrike" u="sng">
                <a:solidFill>
                  <a:srgbClr val="014245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uov.cz</a:t>
            </a:r>
            <a:r>
              <a:rPr b="0" lang="en-US" sz="1800" spc="-1" strike="noStrike" u="sng">
                <a:solidFill>
                  <a:srgbClr val="014245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92120"/>
            <a:ext cx="815976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Arial Unicode MS"/>
              </a:rPr>
              <a:t>Hlavní oblasti činnosti</a:t>
            </a:r>
            <a:r>
              <a:rPr b="0" lang="cs-CZ" sz="2000" spc="-1" strike="noStrike">
                <a:solidFill>
                  <a:srgbClr val="80000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5920" y="1339560"/>
            <a:ext cx="8557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urikulum - cíle a obsah odborného vzdělává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Další vzdělávání pedagogických pracovníků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valifikace – vedení a rozvoj Národní soustavy kvalifikac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Sociální partnerstv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Uznávání výsledků neformálního vzdělávání a informálního uče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oncepce dalšího vzdělává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Celoživotní kariérové poradenstv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Analýzy trhu práce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zinárodní spolupráce, aktivity vyplývající z členství v EU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Jiné aktivity</a:t>
            </a: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 (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STU, bulletin Odborné vzdělávání, zpravodaj Odborné vzdělávání v zahraničí)</a:t>
            </a:r>
            <a:endParaRPr b="0" lang="en-US" sz="14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4245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urikulum – cíle a obsah odborného vzdělává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Tvorba RVP,  transformace soustavy oborů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 - (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H (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215) 82,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E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104) 36, 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J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20) 5,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 M, L/0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391) 110,  L/5  (93) 33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Vývoj kurikula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činnosti a postupy pro monitorování RVP – zadání pro výzkumná šetření (MŠMT, OPŘO, </a:t>
            </a:r>
            <a:r>
              <a:rPr b="1" lang="cs-CZ" sz="1400" spc="-1" strike="noStrike">
                <a:solidFill>
                  <a:srgbClr val="014245"/>
                </a:solidFill>
                <a:latin typeface="Arial"/>
              </a:rPr>
              <a:t>oborové skupiny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Modernizace vzdělávání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CEFIF, finanční gramotnost, EVVO a VUR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Podpora vzdělávání a profesního uplatnění žáků s SPV; péče o nadané žáky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spolupráce s IPPP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v kmenové činnosti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urikulum S,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Metodika II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valita odborného vzdělává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Podpora zajišťování kvality odborného vzdělávání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kmenové činnosti:  reflexe evropského vývoje, Doporučení Rady EU k implementaci Evropského rámce pro zajišťování kvality (EQARF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NZZ, Cesta ke kvalitě, Kurikulum S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andardizace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profilové části MZ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vzdělávání pedagogických pracovníků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rámci počátečního odborného vzdělávání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–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průzkum potřeb a projektování ŠVP ve vazbě na RVP a NSK, didaktické aspekty realizace výuky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souvislosti s realizací dalšího odborného vzdělávání na školách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– průzkumy potřeb, projektování programů DV, realizace DV, celoživotní kariérové poradenství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souvislosti s realizací zájmového popř. občanského vzdělávání na školách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-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průzkumy potřeb, projektování programů DV, realizace DV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 v souvislosti s realizací uznávání výsledků předchozího učení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metodické sjednocování postupů,poradenské a podpůrné aktivity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kmenové činnosti: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urikulum S, Metodika II,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UNIV 2,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   Koncept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valifikace – vedení a rozvoj NSK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vedení NSK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úkol ze zákona č. 179/2006; implementace strategie celoživotního učení; aktivity s mezinárodním kontextem reagují na potřeby reakce české kvalifikační soustavy na předpokládané zavádění ECVET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IPn projekty: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NSK2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Rozvoj a implementace Národní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soustavy kvalifikac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oncept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návrh systémových  mechanismů pro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oblast DV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UNIV 2 –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proměna škol v centra celoživotního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učen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Sociální partnerstv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09520" indent="-20952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Podpora partnerství škol a zaměstnavatelů</a:t>
            </a:r>
            <a:r>
              <a:rPr b="1" lang="cs-CZ" sz="20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Řízení a koordinace činnosti oborových skupin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koncepční skupina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odborné skupiny, Národní síť pro podporu zajišťování kvality odborného vzdělávání, poradní skupina - součást Koordinačního centra EQ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oborové skupiny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pracovní skupiny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-209520"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todická a informační podpora sektorovým radám –   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IPn NSK2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-20952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zinárodní spolupráce – EQF, ECVET, EQARF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Uznávání výsledků neformálního vzdělávání a informálního uče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proces uznávání výsledků předchozího učen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identifikuje, dokumentuje, hodnotí a uznává kompetence jednotlivce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úkoly v kmenové činnosti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IPn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NSK2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andardy – kvalita a validita celého procesu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UNIV 2</a:t>
            </a: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centra CŽU – proces uznávání</a:t>
            </a: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oncept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imulace poptávky jednotlivců i podniků   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    po DV, uznávání výsledků DV ve vazbě na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    NSK a UNIV,…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činnost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oncepce dalšího vzděláván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systémové prostředí pro oblast DV (Implementace strategie celoživotního učen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Celoživotní kariérové poradenstv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integrovaný systém kariérového poradenství,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foabsolvent.cz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 (propojuje informace o školách a oborech vzdělánís poznatky o uplatnění absolventů na trhu práce a o potřebách zaměstnavatelů), Centrum kariérového poradenství 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(IPn 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VIP Kariéra II )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Analýzy trhu práce – 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vývoj ekonomiky, technologií, a kvalifikačních požadavků profesí, analýzy vývoje zaměstnanosti a nezaměstnanosti, stav a vývoj nabídky pracovních příležitostí, vývoj počtu žáků škol podle oborové struktury a vzdělanostní úrovně, přechod absolventů na trh práce a do terciáru, postavení absolventů škol na trhu práce, analýzy stavu a vývoje nezaměstnanosti a absolventů škol, analýzy příčin předčasných odchodů ze vzdělávání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8:40:17Z</dcterms:created>
  <dc:creator>kasparov</dc:creator>
  <dc:description/>
  <dc:language>en-US</dc:language>
  <cp:lastModifiedBy>Jitka Pohanková</cp:lastModifiedBy>
  <dcterms:modified xsi:type="dcterms:W3CDTF">2009-10-07T05:59:59Z</dcterms:modified>
  <cp:revision>110</cp:revision>
  <dc:subject/>
  <dc:title>KURIKULUM S</dc:title>
</cp:coreProperties>
</file>