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FFD7-BBD9-4D8C-80EA-31FFC930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237B-92D5-4164-9DC2-20EA9D69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8A6A-8446-47E9-9EC1-42EEA597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641A-016A-48F7-B6EA-A1CE16D1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4126-7932-40C3-BEFE-512DE483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AAFD-36D3-46FA-ACAA-BB7D199A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28D4-2D5F-4316-97DD-B06988FB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3087-B980-4010-BBD6-76C064BD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44F2-2738-4A7C-BF55-DE84AFA1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2C0C-FFE9-4B26-9DEC-EDE4E87C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008F-81B7-4BB5-B5F2-439623F4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CB81-A098-40DB-B3F7-D039E3F4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8408-D1DA-47DB-9B89-2293F8E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3A6C-E25B-4215-A54E-74B65953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22EF-B443-4896-AF85-C3A6EF20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0DF7-FB30-4364-ADC2-F7C5C657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76F1-28CA-439D-8E44-F8859455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16F8-6860-44E7-87B9-A46E690F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2791-CB88-4D07-96A6-2F760872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8B34-D73C-4A35-BE32-D749CD81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3900-7796-4779-8BE9-6BD35FD9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45E4-3382-4A14-8C52-0A4942FD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2A3E-0C86-4052-A3D4-091CB43A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15F4-4B26-4584-83C1-B7B0AACE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683A-7E3E-4AD9-9FB8-D3FC08F73D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DE21-3759-47A7-8DE5-5943920E03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akladatelsk&#225;%20smlouva.pdf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hled%20VH_nejd&#367;le&#382;it&#283;j&#353;&#237;%20ud&#225;losti.doc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ociace průmyslových škol České republi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 historie Asoci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akladatelská listi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K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Valné hromady a nejdůležitější ud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Jak dál s Asociací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755640" y="4149720"/>
            <a:ext cx="78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ZESHA - Unie školských asociací Č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24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881360" y="63360"/>
            <a:ext cx="538128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179280" y="620640"/>
          <a:ext cx="8964720" cy="59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51:03Z</dcterms:created>
  <dc:creator>ponec</dc:creator>
  <dc:description/>
  <dc:language>en-US</dc:language>
  <cp:lastModifiedBy>sumbal</cp:lastModifiedBy>
  <dcterms:modified xsi:type="dcterms:W3CDTF">2010-10-05T09:41:44Z</dcterms:modified>
  <cp:revision>5</cp:revision>
  <dc:subject/>
  <dc:title>Asociace průmyslových škol České republiky</dc:title>
</cp:coreProperties>
</file>