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4CC2-1956-4D38-8A63-BAEDE785E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FA73-F3BA-484B-A25A-B61D64AE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5499-D068-43A7-B766-BA3017939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9CBC-C154-4104-A2DA-8BB859960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845A-46C8-4805-8B30-159726066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B9F1-BF96-40A4-AD2C-77BA6E2B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E5339-B2E6-4E8E-9CA4-8E4E95F5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9414-CF5F-4179-8A11-DA83404B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B7BEB-C3C9-4A80-9C6E-142A3AB5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46161-369F-439E-9DE0-361C4E51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9F166-0661-461A-8383-DD2092AA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902F-16CD-4993-B29E-27560859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0D5A-1B3D-4109-8CE7-72233CDB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1759-23EA-4CA7-97CE-FC99178B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BD8E1-CAAC-4741-8651-6CB6180A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B906-E127-468D-88FC-CBF86DBB0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A3A5-2852-4DBD-9363-F783D0F94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32D9-C9F4-4E30-990C-8D27AFAB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D668-6949-4C8F-A846-3C15A634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0B19-D957-4643-9909-6CAD8C0E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53DA-E0BA-4D89-BAB2-46EF7E6F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360D-BF42-450E-AB55-8BA5550C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C4EB-0105-4185-A417-05A4669D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61BB-2066-4D16-AFA9-6A023528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8F89-6E38-4D3F-9011-6D989E24731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B7A3-0395-48BC-B7D5-3D9CBB73D57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Ak&#269;ni%20pl&#225;n.doc" TargetMode="External"/><Relationship Id="rId2" Type="http://schemas.openxmlformats.org/officeDocument/2006/relationships/hyperlink" Target="file:///P&#345;&#237;lohy%201%20-%207.doc" TargetMode="External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Implementa&#269;n&#237;%20pl&#225;n" TargetMode="External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Spole&#269;n&#233;%20stanovisko.pdf" TargetMode="External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Odvol&#225;v&#225;n&#237;%20&#345;editel&#367;.doc" TargetMode="External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Prohl&#225;&#353;en&#237;%20%20CZESHA%20k%20novele%20%20p&#345;ij&#237;mac&#237;ho%20&#345;&#237;zen&#237;.doc" TargetMode="External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Arial"/>
              </a:rPr>
              <a:t>Odborné školství</a:t>
            </a:r>
            <a:br>
              <a:rPr sz="66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tradice a aktuální problémy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uhačovi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. – 7. října 20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aroslav Pone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Akční plán podpory odborného školství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Dokument triparti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Příloh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eloživotní vzdělávání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Implementační plá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Vyšší odborné školy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Stanovisko CZESH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echnická lyce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rincipy financování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učasné principy financování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6600"/>
                </a:solidFill>
                <a:latin typeface="Verdana"/>
              </a:rPr>
              <a:t>Mzdy a ONIV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6600"/>
                </a:solidFill>
                <a:latin typeface="Verdana"/>
              </a:rPr>
              <a:t>Financování ze státního rozpočtu</a:t>
            </a:r>
            <a:r>
              <a:rPr b="1" lang="en-US" sz="1400" spc="-1" strike="noStrike">
                <a:solidFill>
                  <a:srgbClr val="ff0066"/>
                </a:solidFill>
                <a:latin typeface="Verdana"/>
              </a:rPr>
              <a:t>,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rozpis provádějí kraje v přenesené působnosti, upraven vyhláškou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Provozní prostředk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Z prostředků kraje, v plné kompetenci kraje na základě rozpočtového určení daní (RUD)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ff00"/>
                </a:solidFill>
                <a:latin typeface="Verdana"/>
              </a:rPr>
              <a:t>Výhody a nevýhody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ento systém odpovídá současnému modelu řízení školství. Jeho určitou nevýhodou je stále příliš vysoké přerozdělování na úrovni krajů, které je někdy ve prospěch, někde v neprospěch odborného školství. Oslabuje se tím princip oborových normativů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Alternativní možnost: Agregované normativy podle věkových kohort nahradit normativy podle skupin příbuzných oborů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alší návrhy v oblasti financování, odmítané A SPŠ a CZESH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Veškeré prostředky pro školství převést do RUD krajů (!!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izika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Ztráta srovnatelného financování na oborovém principu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hloubení rozdílů mezi jednotlivými kraji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Závislost na úrovni výběru daní stanovených RU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středky pro školství přestávají být přímou součástí státního rozpočtu a předmětem kolektivního vyjednávání na úrovni centr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entrum má rozhodovat o legislativních a koncepčních otázkách, aniž má odpovědnost a nástroje k finančnímu zajištění těchto rozhodnutí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středky pro školství nejsou nijak účelově vázány a tudíž pod tlakem dalších priorit v kraji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alší návrhy v oblasti financování, odmítané A SPŠ a CZESHA -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pokračování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Do RUD krajů převést prostředky pro nepedagogické pracovníky(!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izika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ddělení nepedagogických pracovníků z hlediska limitu jejich počtu i mzdových prostředků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epedagogičtí pracovníci nejsou jenom provozními pracovníky, ale mají bezprostřední součinnost i ve vzdělávací oblasti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ICT pracovníci a provoz učeben výpočetní technik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pracovníci sekretariátů a informačních center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pracovníci knihoven atd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tatut škol a postavení ředitelů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Návrh nove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tátní maturit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Postavení odborného školství v našem vzdělávacím systému a změny v posledních letech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učasná situa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1" lang="cs-CZ" sz="1400" spc="-1" strike="noStrike">
                <a:solidFill>
                  <a:srgbClr val="ff6600"/>
                </a:solidFill>
                <a:latin typeface="Verdana"/>
              </a:rPr>
              <a:t>Ke státní maturitě v současném modelu má A SPŠ i CZESHA zásadní výhrady. Vzhledem k tomu, že státní maturita je ve školském zákoně uvedena již mnoho let, je jedinou možností státní maturitu realizovat nebo definitivně zrušit</a:t>
            </a:r>
            <a:r>
              <a:rPr b="1" lang="cs-CZ" sz="800" spc="-1" strike="noStrike">
                <a:solidFill>
                  <a:srgbClr val="ff0066"/>
                </a:solidFill>
                <a:latin typeface="Verdana"/>
              </a:rPr>
              <a:t>.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 u="sng">
                <a:solidFill>
                  <a:srgbClr val="ffff00"/>
                </a:solidFill>
                <a:uFillTx/>
                <a:latin typeface="Verdana"/>
              </a:rPr>
              <a:t>Rizika a výhrady: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Současný model nerespektuje diverzitu a tradice českého středního školství.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Neúnosná administrativní, organizační a finanční náročnost celého procesu, která ovšem s přijatým modelem souvisí.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Dvouúrovňová státní maturita na volitelném principu úrovní neodpovídá struktuře a ambicím jednotlivých vzdělávacích programů.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Časový posun v zavedení státní maturity zpochybňuje její význam,zvláště vzhledem k masovosti maturitních oborů i vzhledem k masovému přijímání na vysoké školy, jejichž kapacita je vyšší než kapacita maturitních ročníků.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Zásadní termínové problémy při ukončování studia.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 u="sng">
                <a:solidFill>
                  <a:srgbClr val="ffff00"/>
                </a:solidFill>
                <a:uFillTx/>
                <a:latin typeface="Verdana"/>
              </a:rPr>
              <a:t>Náš názor: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V celém obludném systému se ztrácí hlavní (a možná jediný) smysl státní maturity, který jsme ochotni podpořit: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cs-CZ" sz="1400" spc="-1" strike="noStrike">
                <a:solidFill>
                  <a:srgbClr val="ff6600"/>
                </a:solidFill>
                <a:latin typeface="Verdana"/>
              </a:rPr>
              <a:t>Stanovit rozumné standardy výstupů ze středních škol především v oblasti všeobecně vzdělávacích předmětů a podpořit je kvalitním testovým materiálem. Stanovit moderní a obhajitelnou metodiku zkoušek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cs-CZ" sz="1400" spc="-1" strike="noStrike">
                <a:solidFill>
                  <a:srgbClr val="ff6600"/>
                </a:solidFill>
                <a:latin typeface="Verdana"/>
              </a:rPr>
              <a:t>Veškerou organizaci i hodnocení státní maturity ponechat na školách!!! Regulérnost zajistit supervizí komisařem a předsedou maturitní komise</a:t>
            </a:r>
            <a:r>
              <a:rPr b="1" lang="cs-CZ" sz="12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1" lang="cs-CZ" sz="1200" spc="-1" strike="noStrike">
                <a:solidFill>
                  <a:srgbClr val="ffffff"/>
                </a:solidFill>
                <a:latin typeface="Verdana"/>
              </a:rPr>
              <a:t>(přece </a:t>
            </a:r>
            <a:r>
              <a:rPr b="1" lang="cs-CZ" sz="1000" spc="-1" strike="noStrike">
                <a:solidFill>
                  <a:srgbClr val="ffffff"/>
                </a:solidFill>
                <a:latin typeface="Verdana"/>
              </a:rPr>
              <a:t>nic nového pod sluncem !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Testování žáků základních škol a přijímací řízení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Stanovisko CZESH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33240" y="566640"/>
            <a:ext cx="787752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-76320" y="38160"/>
            <a:ext cx="929664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-76320" y="-61920"/>
            <a:ext cx="9296640" cy="69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23880" y="1014480"/>
            <a:ext cx="789624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-23760" y="861840"/>
            <a:ext cx="919152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66720" y="890640"/>
            <a:ext cx="781056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57120" y="824040"/>
            <a:ext cx="842976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9:33:43Z</dcterms:created>
  <dc:creator>ponec</dc:creator>
  <dc:description/>
  <dc:language>en-US</dc:language>
  <cp:lastModifiedBy>ponec</cp:lastModifiedBy>
  <dcterms:modified xsi:type="dcterms:W3CDTF">2010-10-05T09:58:31Z</dcterms:modified>
  <cp:revision>18</cp:revision>
  <dc:subject/>
  <dc:title>Odborné školství tradice a aktuální problémy</dc:title>
</cp:coreProperties>
</file>