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9E3B4-1339-42BF-A1A5-1D25B7199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2AF1C-3882-4531-99E2-5E671A6A6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2C042-4913-45AA-A465-77341E0C2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625B8-1E97-494E-AF00-A157F766C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E8A05-2261-4F9B-B9CA-2B6E3D7C8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9BD0D-C8C5-4829-BC85-231760F8E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6456E-E05B-4D12-83BA-236B40712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438DA-09E7-4E43-9C31-F19A44DB5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2585F-F808-48EA-A5C7-B440F7ACD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A5DA0-00AC-4AD0-8514-B84304294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F30FC-4943-4EEA-B01A-2A13FB7E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C8084-B8E0-4964-96FB-86C56E53C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C529B-7D7E-4DA9-B503-EB841EFA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8837E-62DF-4D1A-A44D-1FDD8AF0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3DB43-8D8D-425B-8FB2-50752AAF2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9AB62-42A1-4916-8E44-1872EA040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79130-285D-41BE-B538-57A2B7007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91ACF-3A21-4A9D-B99D-8FAA6490C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81A60-D243-446E-A4C3-E6AC38A04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A8E0C-5B22-46A5-84F0-613540790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B6749-227F-4679-AAFC-2A3B85A08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F316A-ACFC-4BFD-87A1-FDA10A84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2B238-2514-4104-A563-E7EF4B72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EBF4F-A520-4180-B5F9-D9F52FBD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EBDC8-90E8-4A72-8297-85922FA519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E4450-92DE-4EF9-AB87-527AB6CF2EC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zakladatelsk&#225;%20smlouva.pdf" TargetMode="External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P&#345;ehled%20VH_nejd&#367;le&#382;it&#283;j&#353;&#237;%20ud&#225;losti.doc" TargetMode="External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Asociace průmyslových škol České republiky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uhačo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– 7. října 20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roslav Pone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Z historie Asociace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Zakladatelská listina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1"/>
              </a:rPr>
              <a:t>Kop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68360" y="1628640"/>
            <a:ext cx="8229600" cy="30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99ff"/>
                </a:solidFill>
                <a:uFillTx/>
                <a:latin typeface="Arial"/>
                <a:hlinkClick r:id="rId1"/>
              </a:rPr>
              <a:t>Valné hromady a nejdůležitější událost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Jak dál s Asociací?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755640" y="4149720"/>
            <a:ext cx="7862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0099ff"/>
                    </a:gs>
                    <a:gs pos="100000">
                      <a:srgbClr val="99cc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CZESHA - Unie školských asociací ČR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0099ff"/>
                  </a:gs>
                  <a:gs pos="100000">
                    <a:srgbClr val="99cc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2411280" y="981000"/>
            <a:ext cx="4032360" cy="22449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1881360" y="63360"/>
            <a:ext cx="5381280" cy="673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5256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5" name=""/>
          <p:cNvGraphicFramePr/>
          <p:nvPr/>
        </p:nvGraphicFramePr>
        <p:xfrm>
          <a:off x="179280" y="620640"/>
          <a:ext cx="8964720" cy="5967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620640"/>
                    <a:ext cx="8964720" cy="59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09:51:03Z</dcterms:created>
  <dc:creator>ponec</dc:creator>
  <dc:description/>
  <dc:language>en-US</dc:language>
  <cp:lastModifiedBy>sumbal</cp:lastModifiedBy>
  <dcterms:modified xsi:type="dcterms:W3CDTF">2010-10-05T09:41:44Z</dcterms:modified>
  <cp:revision>5</cp:revision>
  <dc:subject/>
  <dc:title>Asociace průmyslových škol České republiky</dc:title>
</cp:coreProperties>
</file>